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2A6-DFA9-4663-86D3-3A5F314F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29F-F65E-4D9D-A2FE-2650D204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FFD-B17D-4DCF-884F-E420896E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392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0784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0000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392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0784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BC4-6A5E-4D5B-BC48-D9D5305E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99640" y="471240"/>
            <a:ext cx="78678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72C-383B-4A90-A1C3-3A845F79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5392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07840" y="159984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0000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5392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207840" y="3796200"/>
            <a:ext cx="25272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3AF-C99B-44A0-9978-AF45DE51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E1E-F6E3-4F58-B32E-9C56E11E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576-3240-4C5D-9580-B102420F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99640" y="471240"/>
            <a:ext cx="78678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947-8BC1-4BDD-B67E-64121002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97D-6B8B-4842-A867-B1D57271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79620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4E5-038A-429D-A617-CFA2C21D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830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00000" y="3796200"/>
            <a:ext cx="78487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65F-A4BC-4A3A-9BBA-7A514F8B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2678" t="21613" r="17451" b="34886"/>
          <a:stretch/>
        </p:blipFill>
        <p:spPr>
          <a:xfrm>
            <a:off x="6985080" y="5877000"/>
            <a:ext cx="1908000" cy="79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5" marL="2857680" indent="-381240">
              <a:lnSpc>
                <a:spcPct val="125000"/>
              </a:lnSpc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6" marL="2857680" indent="-381240">
              <a:lnSpc>
                <a:spcPct val="125000"/>
              </a:lnSpc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892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928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98560" y="0"/>
            <a:ext cx="0" cy="6858000"/>
          </a:xfrm>
          <a:prstGeom prst="line">
            <a:avLst/>
          </a:prstGeom>
          <a:ln w="648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72720" y="6367320"/>
            <a:ext cx="213372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974520" y="6165360"/>
            <a:ext cx="59022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4354560" y="6381720"/>
            <a:ext cx="504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8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 </a:t>
            </a:r>
            <a:fld id="{0D5863FC-B6B1-4452-AA3B-5F9BE2FD18D4}" type="slidenum">
              <a:rPr b="0" lang="en-US" sz="1000" spc="-1" strike="noStrike">
                <a:solidFill>
                  <a:srgbClr val="0038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38920" y="5661000"/>
            <a:ext cx="24494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373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1696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9768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2184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112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8040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61480" y="0"/>
            <a:ext cx="0" cy="6858000"/>
          </a:xfrm>
          <a:prstGeom prst="line">
            <a:avLst/>
          </a:prstGeom>
          <a:ln w="12600">
            <a:solidFill>
              <a:srgbClr val="00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840" y="320004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5840" y="362700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5840" y="405396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5840" y="4481640"/>
            <a:ext cx="9128160" cy="167616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5840" y="4908240"/>
            <a:ext cx="9128160" cy="1676520"/>
          </a:xfrm>
          <a:prstGeom prst="line">
            <a:avLst/>
          </a:prstGeom>
          <a:ln w="3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02080" y="2361960"/>
            <a:ext cx="6146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6360" y="44280"/>
            <a:ext cx="2322720" cy="3024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457200" indent="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914400" indent="324000" algn="ctr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1371600" indent="438120" algn="ctr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1828800" indent="647640" algn="ctr">
              <a:lnSpc>
                <a:spcPct val="125000"/>
              </a:lnSpc>
              <a:buClr>
                <a:srgbClr val="70a42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5" marL="1828800" indent="647640">
              <a:spcBef>
                <a:spcPts val="601"/>
              </a:spcBef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6" marL="1828800" indent="647640">
              <a:spcBef>
                <a:spcPts val="601"/>
              </a:spcBef>
              <a:buClr>
                <a:srgbClr val="00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kadaster.nl/imkad" TargetMode="External"/><Relationship Id="rId2" Type="http://schemas.openxmlformats.org/officeDocument/2006/relationships/hyperlink" Target="http://www.kadaster.nl/brklevering" TargetMode="External"/><Relationship Id="rId3" Type="http://schemas.openxmlformats.org/officeDocument/2006/relationships/hyperlink" Target="mailto:Mickel.langeveld@kadaster.n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02080" y="2361960"/>
            <a:ext cx="6146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ea9"/>
                </a:solidFill>
                <a:latin typeface="Arial"/>
              </a:rPr>
              <a:t>StUF Expertgroep King</a:t>
            </a:r>
            <a:endParaRPr b="0" lang="en-US" sz="28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02080" y="2971800"/>
            <a:ext cx="6146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7d"/>
                </a:solidFill>
                <a:latin typeface="Arial"/>
              </a:rPr>
              <a:t>BRK Levering en IMKAD</a:t>
            </a:r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2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toestandsdatum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Kadastraal objec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Percelen, Appartementsrecht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Zakelijk re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Eigendom, Erfpacht, etc.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Persoonsgebonden recht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Tenaamstelling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Aantekening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WKPb, Erfdienstbaarheid, etc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Persoon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Eigenaar, VVE, Belemmeraar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uk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Kadasterstuk; Aangebodenstuk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3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Levermodel (Waarmee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653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7056720" cy="60008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4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Informatiemodel BRK Levering (Wat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677880"/>
            <a:ext cx="7488360" cy="6294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-16200"/>
            <a:ext cx="82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5) </a:t>
            </a:r>
            <a:br>
              <a:rPr sz="3200"/>
            </a:b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Informatiemodel IMKAD (Context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Centrale as IMKAD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8640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Kadastrale Object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626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Zakelijk recht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46368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Tenaamstelling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2281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Praktische zaken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12 en 13 maart Klantbijeenkomsten BRK Levering met op dit moment 160 aanmelding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1"/>
              </a:rPr>
              <a:t>www.kadaster.nl/imkad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2"/>
              </a:rPr>
              <a:t>www.kadaster.nl/brklevering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a426"/>
                </a:solidFill>
                <a:uFillTx/>
                <a:latin typeface="Arial"/>
                <a:hlinkClick r:id="rId3"/>
              </a:rPr>
              <a:t>Mickel.langeveld@kadaster.nl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592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istorisch perspectief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Leveren informatie uit BRK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aarom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et product oud versus nieuw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Overeenkoms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Verschill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Voorbeeld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ructuren en modellen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Historisch (en toekomstig) perspectief 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00000" y="2924280"/>
            <a:ext cx="8244000" cy="936000"/>
            <a:chOff x="900000" y="2924280"/>
            <a:chExt cx="8244000" cy="936000"/>
          </a:xfrm>
        </p:grpSpPr>
        <p:sp>
          <p:nvSpPr>
            <p:cNvPr id="107" name=""/>
            <p:cNvSpPr/>
            <p:nvPr/>
          </p:nvSpPr>
          <p:spPr>
            <a:xfrm>
              <a:off x="971640" y="3715920"/>
              <a:ext cx="7848360" cy="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4328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82000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1640" y="3428640"/>
              <a:ext cx="0" cy="431640"/>
            </a:xfrm>
            <a:prstGeom prst="line">
              <a:avLst/>
            </a:prstGeom>
            <a:ln w="57240">
              <a:solidFill>
                <a:srgbClr val="007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000" y="292428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1985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84720" y="299700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09080" y="299700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7d"/>
                  </a:solidFill>
                  <a:latin typeface="Arial"/>
                </a:rPr>
                <a:t>2016</a:t>
              </a:r>
              <a:endParaRPr b="0" lang="en-US" sz="2000" spc="-1" strike="noStrike">
                <a:solidFill>
                  <a:srgbClr val="00387d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68360" y="1411200"/>
            <a:ext cx="1511280" cy="863640"/>
          </a:xfrm>
          <a:prstGeom prst="cloudCallout">
            <a:avLst>
              <a:gd name="adj1" fmla="val -48111"/>
              <a:gd name="adj2" fmla="val 202388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Ontstaan AKR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266840"/>
            <a:ext cx="1800360" cy="1152360"/>
          </a:xfrm>
          <a:prstGeom prst="cloudCallout">
            <a:avLst>
              <a:gd name="adj1" fmla="val 51236"/>
              <a:gd name="adj2" fmla="val 151930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Vervanging MO (2004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1700280"/>
            <a:ext cx="1800360" cy="1152360"/>
          </a:xfrm>
          <a:prstGeom prst="cloudCallout">
            <a:avLst>
              <a:gd name="adj1" fmla="val 53087"/>
              <a:gd name="adj2" fmla="val 114185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Alternatief MO (2010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1843200"/>
            <a:ext cx="2016360" cy="1152360"/>
          </a:xfrm>
          <a:prstGeom prst="cloudCallout">
            <a:avLst>
              <a:gd name="adj1" fmla="val -98425"/>
              <a:gd name="adj2" fmla="val 102893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MO papier, later tape/diskette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1266840"/>
            <a:ext cx="1800000" cy="1152360"/>
          </a:xfrm>
          <a:prstGeom prst="cloudCallout">
            <a:avLst>
              <a:gd name="adj1" fmla="val 8907"/>
              <a:gd name="adj2" fmla="val 153305"/>
            </a:avLst>
          </a:prstGeom>
          <a:noFill/>
          <a:ln w="9360">
            <a:solidFill>
              <a:srgbClr val="d9c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c900"/>
                </a:solidFill>
                <a:latin typeface="Arial"/>
              </a:rPr>
              <a:t>Uitfasering MO (2015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36000" y="2274840"/>
            <a:ext cx="1008000" cy="432000"/>
          </a:xfrm>
          <a:prstGeom prst="cloudCallout">
            <a:avLst>
              <a:gd name="adj1" fmla="val -40078"/>
              <a:gd name="adj2" fmla="val 252574"/>
            </a:avLst>
          </a:prstGeom>
          <a:noFill/>
          <a:ln w="9360">
            <a:solidFill>
              <a:srgbClr val="d9c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c900"/>
                </a:solidFill>
                <a:latin typeface="Arial"/>
              </a:rPr>
              <a:t>AKR?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4149720"/>
            <a:ext cx="1944720" cy="1152360"/>
          </a:xfrm>
          <a:prstGeom prst="cloudCallout">
            <a:avLst>
              <a:gd name="adj1" fmla="val 177999"/>
              <a:gd name="adj2" fmla="val -76444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Overleg betrokkenen (2006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5157720"/>
            <a:ext cx="1944720" cy="1152720"/>
          </a:xfrm>
          <a:prstGeom prst="cloudCallout">
            <a:avLst>
              <a:gd name="adj1" fmla="val 126407"/>
              <a:gd name="adj2" fmla="val -163222"/>
            </a:avLst>
          </a:prstGeom>
          <a:noFill/>
          <a:ln w="9360">
            <a:solidFill>
              <a:srgbClr val="9c1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Start project tbv MIV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c1722"/>
                </a:solidFill>
                <a:latin typeface="Arial"/>
              </a:rPr>
              <a:t>(2008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4579920"/>
            <a:ext cx="2016000" cy="1152720"/>
          </a:xfrm>
          <a:prstGeom prst="cloudCallout">
            <a:avLst>
              <a:gd name="adj1" fmla="val 43856"/>
              <a:gd name="adj2" fmla="val -114736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Temporisatie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(2009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4867200"/>
            <a:ext cx="2340000" cy="1152720"/>
          </a:xfrm>
          <a:prstGeom prst="cloudCallout">
            <a:avLst>
              <a:gd name="adj1" fmla="val -23675"/>
              <a:gd name="adj2" fmla="val -139805"/>
            </a:avLst>
          </a:prstGeom>
          <a:noFill/>
          <a:ln w="9360">
            <a:solidFill>
              <a:srgbClr val="70a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Realisatie BRK Levering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a426"/>
                </a:solidFill>
                <a:latin typeface="Arial"/>
              </a:rPr>
              <a:t>(2013)</a:t>
            </a:r>
            <a:endParaRPr b="0" lang="en-US" sz="16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258480"/>
            <a:ext cx="7867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Leveren informatie uit Basis Registratie Kadaster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Ontsluiten van Kadaster gegeven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eurtenis gebaseerd (BRK Levering) (ook voor replicati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Direct actueel (Kik Inzag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eb actueel (Mijn Kadaster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ansluiten bij overheidsstandaar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Formaat (Nen 3610, GML 3.1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Informatiemodellen (IMRO, IMWA, IMBAG, IMKA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0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Koppelbaarheid en uitwisseling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eurtenisgebaseerde abonnement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ansluiten bij toekomstige situatie Kadaste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Uitfasering AK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0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Realisatie van KOBRA (Kadastrale Objecten en Rechten Administratie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Verschillen MO en Nieuwe aanpak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4880" y="1125360"/>
            <a:ext cx="384804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O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ijzigingen over periode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estan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aandelijks mutatie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dministratief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aseerd op AKR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Fixed record size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Cd en download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7280" y="1125360"/>
            <a:ext cx="45370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Nieuwe aanpak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ijzingen via gebeurteniss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ericht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Dagelijks mutaties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dministratief en Geografisch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baseerd op IMKAD 2.01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structureerde GML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Webservices (en downloa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Overeenkomsten MO en Nieuwe aanpak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Abonnement op stand (geheel) en mutaties (wijzigingen); Losse stand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Gemeente, (Gebieds en Persoons) gebonden leveren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Mutaties: zowel oude als nieuwe situatie wordt geleverd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Inhoud van gegevens is in hoofdlijn hetzelfde al kunnen er op details verschillen zijn.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Persoonsgegevens (GBA) en Adresgegevens (BAG conform) worden meegeleverd (geen gebeurtenissen doorgeleverd)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2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7d"/>
                </a:solidFill>
                <a:latin typeface="Arial"/>
              </a:rPr>
              <a:t>BAG pas na koppeling BRK-BAG in de data</a:t>
            </a: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  <a:p>
            <a:pPr marL="2858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datalevering structuur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1413000"/>
            <a:ext cx="7775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                                  00 B29GV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                                  01 M 201012312010113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05O4  5930800091   6115612904201012240014  5907900017   201011080000000{ 0000 00000000000000                                        N0000610003869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KWD000000006100143918J4  5877300118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692400170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826700144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25O4  5930800091   611561290420101224001OLD000000006100117704J4  5826700144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387d"/>
                </a:solidFill>
                <a:latin typeface="Arial"/>
              </a:rPr>
              <a:t>4113 AAR00A 06143D00302010122400089    35O4  5930800091   611561290420101224001AAR00A 06143D002800000000D</a:t>
            </a:r>
            <a:endParaRPr b="0" lang="en-US" sz="7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2637000"/>
            <a:ext cx="792360" cy="863280"/>
          </a:xfrm>
          <a:prstGeom prst="downArrow">
            <a:avLst>
              <a:gd name="adj1" fmla="val 50000"/>
              <a:gd name="adj2" fmla="val 27238"/>
            </a:avLst>
          </a:prstGeom>
          <a:solidFill>
            <a:srgbClr val="008dc9"/>
          </a:solidFill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425124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Geo Informatie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619280"/>
            <a:ext cx="7705800" cy="361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619280" y="1557360"/>
            <a:ext cx="792000" cy="28728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1916280"/>
            <a:ext cx="1224000" cy="28872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2565360"/>
            <a:ext cx="576000" cy="287280"/>
          </a:xfrm>
          <a:prstGeom prst="ellipse">
            <a:avLst/>
          </a:prstGeom>
          <a:noFill/>
          <a:ln w="936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3645000"/>
            <a:ext cx="3166920" cy="1439640"/>
          </a:xfrm>
          <a:prstGeom prst="ellipse">
            <a:avLst/>
          </a:prstGeom>
          <a:noFill/>
          <a:ln w="57240">
            <a:solidFill>
              <a:srgbClr val="007e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9640" y="471240"/>
            <a:ext cx="78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a9"/>
                </a:solidFill>
                <a:latin typeface="Arial"/>
              </a:rPr>
              <a:t>Andere informatie structuur (1)</a:t>
            </a:r>
            <a:endParaRPr b="0" lang="en-US" sz="3200" spc="-1" strike="noStrike">
              <a:solidFill>
                <a:srgbClr val="007ea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848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15000"/>
              </a:lnSpc>
              <a:buClr>
                <a:srgbClr val="70a4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RK-levering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1" marL="857160" indent="-38088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Header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datum, object, stuk, stukdelen, volgnr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Mutatie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1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4" marL="2857680" indent="-38124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1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2" marL="1523880" indent="-285480">
              <a:lnSpc>
                <a:spcPct val="115000"/>
              </a:lnSpc>
              <a:buClr>
                <a:srgbClr val="70a4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Stand </a:t>
            </a:r>
            <a:r>
              <a:rPr b="0" lang="en-US" sz="2400" spc="-1" strike="noStrike">
                <a:solidFill>
                  <a:srgbClr val="9c1722"/>
                </a:solidFill>
                <a:latin typeface="Arial"/>
              </a:rPr>
              <a:t>(burgerlijke gemeente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  <a:p>
            <a:pPr lvl="3" marL="2095560" indent="-285840">
              <a:lnSpc>
                <a:spcPct val="115000"/>
              </a:lnSpc>
              <a:buClr>
                <a:srgbClr val="70a42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7d"/>
                </a:solidFill>
                <a:latin typeface="Arial"/>
              </a:rPr>
              <a:t>Bericht (Nx)</a:t>
            </a:r>
            <a:endParaRPr b="0" lang="en-US" sz="2400" spc="-1" strike="noStrike">
              <a:solidFill>
                <a:srgbClr val="00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0:14:45Z</dcterms:created>
  <dc:creator>langem</dc:creator>
  <dc:description/>
  <dc:language>en-US</dc:language>
  <cp:lastModifiedBy>langem</cp:lastModifiedBy>
  <dcterms:modified xsi:type="dcterms:W3CDTF">2014-02-12T16:02:44Z</dcterms:modified>
  <cp:revision>19</cp:revision>
  <dc:subject/>
  <dc:title>Dia 1</dc:title>
</cp:coreProperties>
</file>